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6B6E-CF51-4998-B7DB-F38CAC278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CCA7-BD49-4A19-9ACE-AC25F9AA1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1A5E-F251-4627-891F-2AC1E93B7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1034-4070-48F0-B33F-41E80904A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782A-9347-44B5-9FDA-B36EFF799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69B5-6132-44F7-8F08-8CB9D842A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0994-4E5E-4C90-9A17-76219B268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E428-BE23-4C2A-8716-9C62E80C3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1A50-4E28-44B6-ACE6-EFBBDA984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0287-52B6-4967-A7BA-364F93D11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CB69-3FBE-4456-A4BA-92CAFDE0E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F700-6855-45AF-B326-402F552B2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62FBD-4B56-4B64-A225-91E559AEA6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76320" y="152280"/>
            <a:ext cx="6705360" cy="8847360"/>
            <a:chOff x="76320" y="152280"/>
            <a:chExt cx="6705360" cy="8847360"/>
          </a:xfrm>
        </p:grpSpPr>
        <p:sp>
          <p:nvSpPr>
            <p:cNvPr id="42" name=""/>
            <p:cNvSpPr/>
            <p:nvPr/>
          </p:nvSpPr>
          <p:spPr>
            <a:xfrm>
              <a:off x="76320" y="152280"/>
              <a:ext cx="6705360" cy="2522520"/>
            </a:xfrm>
            <a:prstGeom prst="rect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tBrush"/>
                </a:rPr>
                <a:t>Benfer Elementary  Welcomes Author / Illustra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lvl="4" marL="1828800"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tBrush"/>
                </a:rPr>
                <a:t>Travel the World…Read Good Books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76320" y="3276720"/>
              <a:ext cx="6705360" cy="2522520"/>
            </a:xfrm>
            <a:prstGeom prst="rect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tBrush"/>
                </a:rPr>
                <a:t>Benfer Elementary  Welcomes Author / Illustra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lvl="4" marL="1828800"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tBrush"/>
                </a:rPr>
                <a:t>Travel the World…Read Good Books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76320" y="6477120"/>
              <a:ext cx="6705360" cy="2522520"/>
            </a:xfrm>
            <a:prstGeom prst="rect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tBrush"/>
                </a:rPr>
                <a:t>Benfer Elementary  Welcomes Author / Illustra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lvl="4" marL="1828800"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tBrush"/>
                </a:rPr>
                <a:t>Travel the World…Read Good Books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7T02:51:11Z</dcterms:created>
  <dc:creator>J</dc:creator>
  <dc:description/>
  <dc:language>en-US</dc:language>
  <cp:lastModifiedBy>J</cp:lastModifiedBy>
  <dcterms:modified xsi:type="dcterms:W3CDTF">2008-10-07T02:59:50Z</dcterms:modified>
  <cp:revision>1</cp:revision>
  <dc:subject/>
  <dc:title>Slide 1</dc:title>
</cp:coreProperties>
</file>